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5E8-9A31-4350-A1DC-072D4F69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6C7-43E4-45B9-B416-55B4A4B5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F94-2B04-45E2-9904-E78D669B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EE6-40AB-4C1A-A23B-EFAF46DA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C13-B81C-417D-9DEB-C51980B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E20-9814-4E10-A694-83B1777F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661-728E-4B61-98AB-CE39E902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43D-36C3-4637-A498-5CB03C81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505-2CA9-4A41-A1A3-91A39657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0D8-D335-40FF-852B-1935D12A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286-0D5F-4A7F-BA26-5396B25B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ABC-7743-4926-97A0-9B62CA34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Mariana Casella dos Sa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1804-23B3-40FD-9E8A-CA89C33DE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34320" y="5791320"/>
            <a:ext cx="1981080" cy="79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9880" y="22096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27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5720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Bootstrapping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Image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2492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baseline="2000">
                <a:solidFill>
                  <a:srgbClr val="006699"/>
                </a:solidFill>
                <a:latin typeface="Verdana"/>
                <a:ea typeface="Times New Roman"/>
              </a:rPr>
              <a:t>Image Ontology WS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7160" y="278136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6699"/>
                </a:solidFill>
                <a:latin typeface="Times New Roman"/>
              </a:rPr>
              <a:t>Mariana Casella dos Santos, 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343320" y="907920"/>
            <a:ext cx="5549760" cy="5689800"/>
          </a:xfrm>
          <a:prstGeom prst="ellipse">
            <a:avLst/>
          </a:prstGeom>
          <a:solidFill>
            <a:srgbClr val="ff9900"/>
          </a:solidFill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9800" y="4365720"/>
            <a:ext cx="1299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QUA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28920" y="349884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52600" y="471780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600" y="1752120"/>
            <a:ext cx="0" cy="304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84720" y="2133720"/>
            <a:ext cx="0" cy="380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9080" y="8366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Times New Roman"/>
              </a:rPr>
              <a:t>LinK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332000" y="5444640"/>
            <a:ext cx="1008000" cy="5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4941720"/>
            <a:ext cx="15112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PATHOLOG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84000" y="4005360"/>
            <a:ext cx="20520" cy="9144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3920" y="5877000"/>
            <a:ext cx="618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tc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3379680"/>
            <a:ext cx="16765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RADIOLO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NT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ootstrapping Method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187280" y="4005360"/>
            <a:ext cx="0" cy="2872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4005000"/>
            <a:ext cx="0" cy="18716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979640" y="4365720"/>
            <a:ext cx="3024000" cy="1181160"/>
            <a:chOff x="1979640" y="4365720"/>
            <a:chExt cx="3024000" cy="1181160"/>
          </a:xfrm>
        </p:grpSpPr>
        <p:sp>
          <p:nvSpPr>
            <p:cNvPr id="230" name=""/>
            <p:cNvSpPr/>
            <p:nvPr/>
          </p:nvSpPr>
          <p:spPr>
            <a:xfrm>
              <a:off x="1979640" y="5229360"/>
              <a:ext cx="3024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11280" y="4365720"/>
              <a:ext cx="936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520" y="44370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22480" y="530064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PPING 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09800" y="2492280"/>
            <a:ext cx="471168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MID-LAYER &amp; embedded Linguistic Ontology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Documents"/>
          <p:cNvSpPr/>
          <p:nvPr/>
        </p:nvSpPr>
        <p:spPr>
          <a:xfrm>
            <a:off x="324000" y="1197000"/>
            <a:ext cx="1439640" cy="18003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notated Corp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763640" y="1773360"/>
            <a:ext cx="2448000" cy="2519280"/>
            <a:chOff x="1763640" y="1773360"/>
            <a:chExt cx="2448000" cy="2519280"/>
          </a:xfrm>
        </p:grpSpPr>
        <p:sp>
          <p:nvSpPr>
            <p:cNvPr id="237" name=""/>
            <p:cNvSpPr/>
            <p:nvPr/>
          </p:nvSpPr>
          <p:spPr>
            <a:xfrm>
              <a:off x="1835280" y="1773360"/>
              <a:ext cx="237636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63640" y="1916280"/>
              <a:ext cx="100800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13080" y="2205000"/>
              <a:ext cx="99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98160" y="292428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5867280" y="3860280"/>
            <a:ext cx="0" cy="11732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580000" y="2852280"/>
            <a:ext cx="0" cy="3812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859280" y="3860280"/>
            <a:ext cx="0" cy="36036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48240" y="1773360"/>
            <a:ext cx="139824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BFO 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5120" y="4292640"/>
            <a:ext cx="17640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90760" y="5084640"/>
            <a:ext cx="181152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3284640"/>
            <a:ext cx="2881080" cy="52020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PRIMITIVE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(mid layer or domain specifi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92560" y="4437000"/>
            <a:ext cx="17640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7840" y="3645000"/>
            <a:ext cx="19332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PRIMITIVE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812000" y="4005360"/>
            <a:ext cx="0" cy="380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596360" y="2852640"/>
            <a:ext cx="0" cy="72072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020000" y="4868640"/>
            <a:ext cx="504720" cy="36036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6520" y="5013360"/>
            <a:ext cx="99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HORIZO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RE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300720" y="2133360"/>
            <a:ext cx="863280" cy="1439640"/>
            <a:chOff x="6300720" y="2133360"/>
            <a:chExt cx="863280" cy="1439640"/>
          </a:xfrm>
        </p:grpSpPr>
        <p:sp>
          <p:nvSpPr>
            <p:cNvPr id="255" name=""/>
            <p:cNvSpPr/>
            <p:nvPr/>
          </p:nvSpPr>
          <p:spPr>
            <a:xfrm flipV="1">
              <a:off x="6300720" y="2133720"/>
              <a:ext cx="0" cy="1079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6587640" y="2133360"/>
              <a:ext cx="576360" cy="1439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598520" y="1125360"/>
            <a:ext cx="142596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ff33"/>
                </a:solidFill>
                <a:uFillTx/>
                <a:latin typeface="Times New Roman"/>
              </a:rPr>
              <a:t>EX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44720" y="327672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0836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027640" y="378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36840" y="44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940360" y="5229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8160" y="5229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18320" y="443700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8160" y="429264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518320" y="3789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740360" y="45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7080" y="191628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09480" y="198900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38760" y="1197000"/>
            <a:ext cx="8208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56360" y="1557360"/>
            <a:ext cx="0" cy="2160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659640" y="1341000"/>
            <a:ext cx="720720" cy="5238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572000" y="1341360"/>
            <a:ext cx="1079640" cy="596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125360"/>
            <a:ext cx="3276720" cy="1130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5445000"/>
            <a:ext cx="410544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4986360"/>
            <a:ext cx="4105440" cy="45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080" y="2421000"/>
            <a:ext cx="3562200" cy="24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48920" y="297180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?/Controvers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734080"/>
            <a:ext cx="2427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64000" y="6021360"/>
            <a:ext cx="3780000" cy="554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4221000"/>
            <a:ext cx="3749760" cy="187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32680" y="1197000"/>
            <a:ext cx="273024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95960" y="17733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04000" y="2863800"/>
            <a:ext cx="2158920" cy="1130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07240" y="351144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 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1844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92360" y="1268280"/>
            <a:ext cx="2159280" cy="1130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124920"/>
            <a:ext cx="755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Main Radiology Class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&amp; BF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4365720"/>
            <a:ext cx="2016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     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0520" y="5013360"/>
            <a:ext cx="2265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9440" y="5516640"/>
            <a:ext cx="2454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9920" y="3271680"/>
            <a:ext cx="78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74120" y="2133720"/>
            <a:ext cx="1221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9640" y="263700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4320" y="3357720"/>
            <a:ext cx="87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8000" y="4365720"/>
            <a:ext cx="28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ANIFESTATION/SYMP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9120" y="3860640"/>
            <a:ext cx="3195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OPATHOLOG. ALT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9040" y="3220920"/>
            <a:ext cx="2857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4200" y="177336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7640" y="1916280"/>
            <a:ext cx="720720" cy="1296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16720" y="3429000"/>
            <a:ext cx="10080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66920" y="2421000"/>
            <a:ext cx="792360" cy="720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940360" y="3644640"/>
            <a:ext cx="1152720" cy="647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2852640"/>
            <a:ext cx="1295280" cy="432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236000" y="4724280"/>
            <a:ext cx="0" cy="217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028000" y="4723920"/>
            <a:ext cx="0" cy="792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79280" y="2997000"/>
            <a:ext cx="0" cy="1368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24000" y="2997360"/>
            <a:ext cx="0" cy="86328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9640" y="2997000"/>
            <a:ext cx="0" cy="360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50480" y="1413000"/>
            <a:ext cx="2135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363640" y="1628640"/>
            <a:ext cx="1008360" cy="1440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6280" y="5445000"/>
            <a:ext cx="925920" cy="30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88200" y="5533920"/>
            <a:ext cx="2264040" cy="30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FINDING OF NORM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284720" y="3644640"/>
            <a:ext cx="0" cy="1871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268360" y="3645000"/>
            <a:ext cx="1798920" cy="1728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95600" y="19162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 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85800" y="6021360"/>
            <a:ext cx="19029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SEVERITY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604360" y="4723920"/>
            <a:ext cx="0" cy="122580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8520" y="429264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pen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6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87280" y="6021360"/>
            <a:ext cx="4105440" cy="316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6303960"/>
            <a:ext cx="4105440" cy="43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6680" y="1197000"/>
            <a:ext cx="301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??? The Image                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Interpretation                     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2360" y="1125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5800" y="1468440"/>
            <a:ext cx="990000" cy="307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tological Relations?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2455560" y="4653000"/>
            <a:ext cx="903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56000" y="3644640"/>
            <a:ext cx="0" cy="93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9840" y="327168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57520" y="3263760"/>
            <a:ext cx="74628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38640" y="4683240"/>
            <a:ext cx="90324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D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9440" y="3675240"/>
            <a:ext cx="91836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10480" y="2522520"/>
            <a:ext cx="1215360" cy="52020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END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5400" y="1484280"/>
            <a:ext cx="77508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516720" y="4106880"/>
            <a:ext cx="0" cy="504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516720" y="3098520"/>
            <a:ext cx="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5580000" y="1874520"/>
            <a:ext cx="72072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788000" y="1844280"/>
            <a:ext cx="57600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348000" y="3644640"/>
            <a:ext cx="1008000" cy="93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92360" y="4365720"/>
            <a:ext cx="2448000" cy="504360"/>
            <a:chOff x="3492360" y="4365720"/>
            <a:chExt cx="2448000" cy="504360"/>
          </a:xfrm>
        </p:grpSpPr>
        <p:sp>
          <p:nvSpPr>
            <p:cNvPr id="342" name=""/>
            <p:cNvSpPr/>
            <p:nvPr/>
          </p:nvSpPr>
          <p:spPr>
            <a:xfrm flipV="1">
              <a:off x="3492360" y="4797000"/>
              <a:ext cx="244800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6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191320" y="5373360"/>
            <a:ext cx="5199480" cy="714240"/>
            <a:chOff x="2191320" y="5373360"/>
            <a:chExt cx="5199480" cy="714240"/>
          </a:xfrm>
        </p:grpSpPr>
        <p:sp>
          <p:nvSpPr>
            <p:cNvPr id="345" name=""/>
            <p:cNvSpPr/>
            <p:nvPr/>
          </p:nvSpPr>
          <p:spPr>
            <a:xfrm flipV="1">
              <a:off x="2771640" y="5373360"/>
              <a:ext cx="417672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91320" y="5445000"/>
              <a:ext cx="519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looks like but not necessarily is related in the e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06440" y="1413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ques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es an image ontology invo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cessarily an ‘ontology’ of cogni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30000" y="1628280"/>
            <a:ext cx="7186320" cy="3979440"/>
            <a:chOff x="1530000" y="1628280"/>
            <a:chExt cx="7186320" cy="3979440"/>
          </a:xfrm>
        </p:grpSpPr>
        <p:sp>
          <p:nvSpPr>
            <p:cNvPr id="349" name=""/>
            <p:cNvSpPr/>
            <p:nvPr/>
          </p:nvSpPr>
          <p:spPr>
            <a:xfrm>
              <a:off x="1530000" y="5300640"/>
              <a:ext cx="11469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</a:rPr>
                <a:t>INFILT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63640" y="3644640"/>
              <a:ext cx="0" cy="1584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52040" y="5229360"/>
              <a:ext cx="138312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7440" y="3890880"/>
              <a:ext cx="94572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6280" y="2060640"/>
              <a:ext cx="12200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PERDUR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8166240" y="2420640"/>
              <a:ext cx="6120" cy="14698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5940360" y="1628280"/>
              <a:ext cx="1440000" cy="576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28000" y="4292280"/>
              <a:ext cx="0" cy="8650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aling w/ Term Rule @ Application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853560" y="3716280"/>
            <a:ext cx="110880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CAT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29040" y="2637000"/>
            <a:ext cx="145800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HUMAN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97480" y="1557360"/>
            <a:ext cx="73692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116000" y="1988640"/>
            <a:ext cx="0" cy="1692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547640" y="1988640"/>
            <a:ext cx="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4240" y="1268280"/>
            <a:ext cx="756720" cy="307080"/>
          </a:xfrm>
          <a:prstGeom prst="rect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hear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24000" y="3716280"/>
            <a:ext cx="1615680" cy="616320"/>
            <a:chOff x="2124000" y="3716280"/>
            <a:chExt cx="1615680" cy="616320"/>
          </a:xfrm>
        </p:grpSpPr>
        <p:sp>
          <p:nvSpPr>
            <p:cNvPr id="365" name=""/>
            <p:cNvSpPr/>
            <p:nvPr/>
          </p:nvSpPr>
          <p:spPr>
            <a:xfrm flipV="1">
              <a:off x="2124000" y="3860280"/>
              <a:ext cx="935280" cy="3492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32800" y="3716280"/>
              <a:ext cx="50688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C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94560" y="393372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-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H="1">
            <a:off x="1692000" y="14130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24000" y="1413000"/>
            <a:ext cx="5833080" cy="1728720"/>
            <a:chOff x="324000" y="1413000"/>
            <a:chExt cx="5833080" cy="1728720"/>
          </a:xfrm>
        </p:grpSpPr>
        <p:sp>
          <p:nvSpPr>
            <p:cNvPr id="370" name=""/>
            <p:cNvSpPr/>
            <p:nvPr/>
          </p:nvSpPr>
          <p:spPr>
            <a:xfrm flipH="1">
              <a:off x="2700360" y="2781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2920" y="2565360"/>
              <a:ext cx="1800360" cy="576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4000" y="1413000"/>
              <a:ext cx="1800000" cy="576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7680" y="1700280"/>
              <a:ext cx="21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id-layer 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42960" y="2637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edical domain 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123640" y="1699920"/>
              <a:ext cx="1079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H="1" flipV="1">
            <a:off x="1763280" y="41497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9160" y="4581360"/>
            <a:ext cx="37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ots cause cat’s heart diseas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rot="50400">
            <a:off x="2144520" y="4869000"/>
            <a:ext cx="718920" cy="433080"/>
          </a:xfrm>
          <a:custGeom>
            <a:avLst/>
            <a:gdLst>
              <a:gd name="textAreaLeft" fmla="*/ 125640 w 718920"/>
              <a:gd name="textAreaRight" fmla="*/ 521280 w 718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866920" y="1197000"/>
            <a:ext cx="2450160" cy="1800360"/>
            <a:chOff x="5866920" y="1197000"/>
            <a:chExt cx="2450160" cy="1800360"/>
          </a:xfrm>
        </p:grpSpPr>
        <p:sp>
          <p:nvSpPr>
            <p:cNvPr id="380" name="Documents"/>
            <p:cNvSpPr/>
            <p:nvPr/>
          </p:nvSpPr>
          <p:spPr>
            <a:xfrm>
              <a:off x="6877080" y="1197000"/>
              <a:ext cx="1440000" cy="18003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linical Doc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866920" y="2060640"/>
              <a:ext cx="10098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225840" y="4294080"/>
            <a:ext cx="1689480" cy="1046520"/>
            <a:chOff x="6225840" y="4294080"/>
            <a:chExt cx="1689480" cy="1046520"/>
          </a:xfrm>
        </p:grpSpPr>
        <p:sp>
          <p:nvSpPr>
            <p:cNvPr id="383" name=""/>
            <p:cNvSpPr/>
            <p:nvPr/>
          </p:nvSpPr>
          <p:spPr>
            <a:xfrm flipV="1">
              <a:off x="7020000" y="4294080"/>
              <a:ext cx="79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25840" y="494172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lucose 128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158160" y="4294080"/>
            <a:ext cx="1517040" cy="719280"/>
            <a:chOff x="6158160" y="4294080"/>
            <a:chExt cx="1517040" cy="719280"/>
          </a:xfrm>
        </p:grpSpPr>
        <p:sp>
          <p:nvSpPr>
            <p:cNvPr id="386" name=""/>
            <p:cNvSpPr/>
            <p:nvPr/>
          </p:nvSpPr>
          <p:spPr>
            <a:xfrm flipH="1" flipV="1">
              <a:off x="6227640" y="4294080"/>
              <a:ext cx="649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58160" y="4437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 rot="50400">
            <a:off x="6802920" y="5302080"/>
            <a:ext cx="719280" cy="433440"/>
          </a:xfrm>
          <a:custGeom>
            <a:avLst/>
            <a:gdLst>
              <a:gd name="textAreaLeft" fmla="*/ 125640 w 719280"/>
              <a:gd name="textAreaRight" fmla="*/ 521640 w 71928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62720" y="3933720"/>
            <a:ext cx="4245840" cy="1170720"/>
            <a:chOff x="4662720" y="3933720"/>
            <a:chExt cx="4245840" cy="1170720"/>
          </a:xfrm>
        </p:grpSpPr>
        <p:sp>
          <p:nvSpPr>
            <p:cNvPr id="391" name=""/>
            <p:cNvSpPr/>
            <p:nvPr/>
          </p:nvSpPr>
          <p:spPr>
            <a:xfrm>
              <a:off x="7389720" y="3933720"/>
              <a:ext cx="15188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GLUCOSE 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8800" y="3933720"/>
              <a:ext cx="9824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372000" y="4078440"/>
              <a:ext cx="863640" cy="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2720" y="4797360"/>
              <a:ext cx="953640" cy="307080"/>
            </a:xfrm>
            <a:prstGeom prst="rect">
              <a:avLst/>
            </a:prstGeom>
            <a:solidFill>
              <a:srgbClr val="336699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nl-BE" sz="1400" spc="-1" strike="noStrike">
                  <a:solidFill>
                    <a:srgbClr val="ffffff"/>
                  </a:solidFill>
                  <a:latin typeface="Verdana"/>
                </a:rPr>
                <a:t>gluco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292360" y="4294080"/>
              <a:ext cx="1429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8220240" y="4292640"/>
            <a:ext cx="813600" cy="1543320"/>
            <a:chOff x="8220240" y="4292640"/>
            <a:chExt cx="813600" cy="1543320"/>
          </a:xfrm>
        </p:grpSpPr>
        <p:sp>
          <p:nvSpPr>
            <p:cNvPr id="397" name=""/>
            <p:cNvSpPr/>
            <p:nvPr/>
          </p:nvSpPr>
          <p:spPr>
            <a:xfrm>
              <a:off x="8220240" y="4797360"/>
              <a:ext cx="689760" cy="5202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44520" y="5589720"/>
              <a:ext cx="589320" cy="246240"/>
            </a:xfrm>
            <a:prstGeom prst="rect">
              <a:avLst/>
            </a:prstGeom>
            <a:solidFill>
              <a:srgbClr val="336699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nl-BE" sz="1000" spc="-1" strike="noStrike">
                  <a:solidFill>
                    <a:srgbClr val="ffffff"/>
                  </a:solidFill>
                  <a:latin typeface="Verdana"/>
                </a:rPr>
                <a:t>value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7564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88360" y="4292640"/>
              <a:ext cx="0" cy="4316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bout Language and Comput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46160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6699"/>
                </a:solidFill>
                <a:latin typeface="Verdana"/>
              </a:rPr>
              <a:t>L&amp;C leverages:</a:t>
            </a:r>
            <a:r>
              <a:rPr b="0" lang="fr-BE" sz="1400" spc="-1" strike="noStrike">
                <a:solidFill>
                  <a:srgbClr val="006699"/>
                </a:solidFill>
                <a:latin typeface="Verdana"/>
              </a:rPr>
              <a:t> Ontology-based information &amp; knowledge discovery, management and retrieval solutions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6699"/>
                </a:solidFill>
                <a:latin typeface="Verdana"/>
              </a:rPr>
              <a:t>L&amp;C’s wide range of application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Ontology development (e.g. terminology services/servers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Data integrat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Natural Language Processin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Semantic Indexing (e.g. text mining, workflow suppor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Semantic Search &amp; Retrieval (e.g. research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Information Extraction (data warehousing, process automation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Knowledge Discover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6699"/>
                </a:solidFill>
                <a:latin typeface="Verdana"/>
              </a:rPr>
              <a:t>Technology serves as integration-friendly middleware or powerful standalone applications: </a:t>
            </a:r>
            <a:r>
              <a:rPr b="1" i="1" lang="fr-BE" sz="1400" spc="-1" strike="noStrike">
                <a:solidFill>
                  <a:srgbClr val="006699"/>
                </a:solidFill>
                <a:latin typeface="Verdana"/>
              </a:rPr>
              <a:t>Solution focused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6699"/>
                </a:solidFill>
                <a:latin typeface="Verdana"/>
              </a:rPr>
              <a:t>Customers Represent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Govern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Pharm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Healthcare I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Provider Organiza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esentation Outlin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tology Goa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terials and Metho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main class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main relati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ssues encountered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discussion throughout the slides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uture Wor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tology Goal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318320" y="1700280"/>
            <a:ext cx="3414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Unique Id X : CALCIFICATION OF 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760" y="1197000"/>
            <a:ext cx="60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rmalize different natural language descri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000" y="2421000"/>
            <a:ext cx="24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ulmonary mineraliz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23720" y="24210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lung calcific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74880" y="2080800"/>
            <a:ext cx="217440" cy="360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11240" y="2080800"/>
            <a:ext cx="289080" cy="360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8880" y="2852640"/>
            <a:ext cx="69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rmalize and intersect different controlled termi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095560" cy="76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5960" y="3271680"/>
            <a:ext cx="223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Unique Id Y : NEOPL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306960" cy="63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1042920" y="3645000"/>
            <a:ext cx="865080" cy="79200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916360" y="3644640"/>
            <a:ext cx="792000" cy="43164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869000"/>
            <a:ext cx="42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Utilize the above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Encode &amp; standardize pati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op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is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a NLP/N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aterials &amp; Method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690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nKBase® Ontology: framework(s), existing radiology portion and related cont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dLex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ilored Text Annotation tool &amp; corpus of radiology repor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ilored Ontology Extraction too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rpus Annotatio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2920" y="1976400"/>
            <a:ext cx="8856720" cy="290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56000" y="2276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2276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263700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80360" y="2852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3573360"/>
            <a:ext cx="504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860640"/>
            <a:ext cx="36036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465300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1560" y="1484280"/>
            <a:ext cx="16956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78880" y="1725480"/>
            <a:ext cx="7020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6360" y="5183280"/>
            <a:ext cx="15325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8840" y="5759280"/>
            <a:ext cx="17899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830920"/>
            <a:ext cx="21240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5720" y="5183280"/>
            <a:ext cx="196236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479736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149720"/>
            <a:ext cx="71280" cy="158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86064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314172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067280" y="1773360"/>
            <a:ext cx="1009440" cy="57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916360" y="1773360"/>
            <a:ext cx="934920" cy="645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516720" y="198900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411280" y="1628640"/>
            <a:ext cx="503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1989000"/>
            <a:ext cx="36036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480" y="1341360"/>
            <a:ext cx="185724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Class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7064280" y="4365720"/>
            <a:ext cx="1082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1440" y="4986360"/>
            <a:ext cx="2265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07720" y="5445000"/>
            <a:ext cx="2454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9920" y="3271680"/>
            <a:ext cx="78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74120" y="2133720"/>
            <a:ext cx="1221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640" y="364500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4320" y="4365720"/>
            <a:ext cx="87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5373720"/>
            <a:ext cx="28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ANIFESTATION/SYMP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9120" y="4869000"/>
            <a:ext cx="3195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OPATHOLOG. ALT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8520" y="3220920"/>
            <a:ext cx="24195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4200" y="184464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989000"/>
            <a:ext cx="720720" cy="1152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16720" y="3429000"/>
            <a:ext cx="10080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421000"/>
            <a:ext cx="792360" cy="720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844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940360" y="3644640"/>
            <a:ext cx="1152720" cy="647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40000" y="3428640"/>
            <a:ext cx="1224000" cy="431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236000" y="4724280"/>
            <a:ext cx="0" cy="217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12000" y="4724280"/>
            <a:ext cx="0" cy="649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9280" y="4005000"/>
            <a:ext cx="0" cy="1368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4000" y="4005000"/>
            <a:ext cx="0" cy="8636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39640" y="4005000"/>
            <a:ext cx="0" cy="360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34680" y="2133360"/>
            <a:ext cx="6149160" cy="4380480"/>
            <a:chOff x="634680" y="2133360"/>
            <a:chExt cx="6149160" cy="4380480"/>
          </a:xfrm>
        </p:grpSpPr>
        <p:sp>
          <p:nvSpPr>
            <p:cNvPr id="119" name=""/>
            <p:cNvSpPr/>
            <p:nvPr/>
          </p:nvSpPr>
          <p:spPr>
            <a:xfrm>
              <a:off x="3069720" y="5950080"/>
              <a:ext cx="50076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flu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32000" y="566064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588000" y="5734080"/>
              <a:ext cx="0" cy="5032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276720" y="5157360"/>
              <a:ext cx="0" cy="792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332000" y="4508640"/>
              <a:ext cx="28728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47640" y="213336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4760" y="4365720"/>
              <a:ext cx="227160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pneumonia”, “teratom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680" y="5877000"/>
              <a:ext cx="14594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pain”, “feve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2960" y="5445000"/>
              <a:ext cx="2265480" cy="459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Variations of size or quantit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 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nlarged”, “few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6720" y="6237360"/>
              <a:ext cx="22471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asymmetric, “confluen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440" y="2492280"/>
              <a:ext cx="1910520" cy="459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mage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density”, “infiltrat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932360" y="5084640"/>
              <a:ext cx="28728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0920" y="2060640"/>
            <a:ext cx="2275200" cy="1655640"/>
            <a:chOff x="250920" y="2060640"/>
            <a:chExt cx="2275200" cy="1655640"/>
          </a:xfrm>
        </p:grpSpPr>
        <p:sp>
          <p:nvSpPr>
            <p:cNvPr id="132" name=""/>
            <p:cNvSpPr/>
            <p:nvPr/>
          </p:nvSpPr>
          <p:spPr>
            <a:xfrm flipH="1">
              <a:off x="250920" y="2060640"/>
              <a:ext cx="50472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3320" y="2349360"/>
              <a:ext cx="20628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terpretation of what’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en on the image V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what’s actually happe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 the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450480" y="1413000"/>
            <a:ext cx="2135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63640" y="1628640"/>
            <a:ext cx="1008360" cy="1440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7164360" y="2421000"/>
            <a:ext cx="0" cy="288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Relation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@ instance level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6497640" y="2781360"/>
            <a:ext cx="1363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00000" y="4005360"/>
            <a:ext cx="1552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640" y="433872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7520" y="3914640"/>
            <a:ext cx="1549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4200" y="253836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2852640"/>
            <a:ext cx="647640" cy="1008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916280"/>
            <a:ext cx="0" cy="19461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195640" y="4149360"/>
            <a:ext cx="1368360" cy="3589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63640" y="2421000"/>
            <a:ext cx="1079640" cy="1439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6720" y="2827440"/>
            <a:ext cx="1067760" cy="1511280"/>
            <a:chOff x="36720" y="2827440"/>
            <a:chExt cx="1067760" cy="1511280"/>
          </a:xfrm>
        </p:grpSpPr>
        <p:sp>
          <p:nvSpPr>
            <p:cNvPr id="149" name=""/>
            <p:cNvSpPr/>
            <p:nvPr/>
          </p:nvSpPr>
          <p:spPr>
            <a:xfrm>
              <a:off x="1042920" y="2827440"/>
              <a:ext cx="0" cy="1511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720" y="325908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CLIN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RE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235400" y="1844280"/>
            <a:ext cx="3247200" cy="1937520"/>
            <a:chOff x="4235400" y="1844280"/>
            <a:chExt cx="3247200" cy="1937520"/>
          </a:xfrm>
        </p:grpSpPr>
        <p:sp>
          <p:nvSpPr>
            <p:cNvPr id="152" name=""/>
            <p:cNvSpPr/>
            <p:nvPr/>
          </p:nvSpPr>
          <p:spPr>
            <a:xfrm flipV="1">
              <a:off x="4387680" y="184428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772320" y="3068280"/>
              <a:ext cx="31680" cy="576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35400" y="2225520"/>
              <a:ext cx="67140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aort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0560" y="3505320"/>
              <a:ext cx="9320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nlarged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394040" y="4514400"/>
            <a:ext cx="872640" cy="635760"/>
            <a:chOff x="7394040" y="4514400"/>
            <a:chExt cx="872640" cy="635760"/>
          </a:xfrm>
        </p:grpSpPr>
        <p:sp>
          <p:nvSpPr>
            <p:cNvPr id="157" name=""/>
            <p:cNvSpPr/>
            <p:nvPr/>
          </p:nvSpPr>
          <p:spPr>
            <a:xfrm flipV="1">
              <a:off x="7556400" y="451440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4040" y="4873680"/>
              <a:ext cx="8726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calcified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987640" y="1628280"/>
            <a:ext cx="3455640" cy="982800"/>
            <a:chOff x="2987640" y="1628280"/>
            <a:chExt cx="3455640" cy="982800"/>
          </a:xfrm>
        </p:grpSpPr>
        <p:sp>
          <p:nvSpPr>
            <p:cNvPr id="160" name=""/>
            <p:cNvSpPr/>
            <p:nvPr/>
          </p:nvSpPr>
          <p:spPr>
            <a:xfrm flipV="1">
              <a:off x="2987640" y="1699920"/>
              <a:ext cx="647640" cy="911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508360" y="1628280"/>
              <a:ext cx="934920" cy="62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561000" y="2060640"/>
            <a:ext cx="1082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70880" y="2827080"/>
            <a:ext cx="2031120" cy="2460960"/>
            <a:chOff x="1370880" y="2827080"/>
            <a:chExt cx="2031120" cy="2460960"/>
          </a:xfrm>
        </p:grpSpPr>
        <p:sp>
          <p:nvSpPr>
            <p:cNvPr id="164" name=""/>
            <p:cNvSpPr/>
            <p:nvPr/>
          </p:nvSpPr>
          <p:spPr>
            <a:xfrm>
              <a:off x="2124000" y="3429000"/>
              <a:ext cx="287280" cy="1512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547640" y="282708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0880" y="3186000"/>
              <a:ext cx="89856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nfiltrat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9080" y="381780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INDICATIVE-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4000" y="465264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2120" y="5011560"/>
              <a:ext cx="11149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pneumoni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 flipV="1">
            <a:off x="7740360" y="2276280"/>
            <a:ext cx="647640" cy="165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88000" y="2565360"/>
            <a:ext cx="2520720" cy="2879640"/>
            <a:chOff x="4788000" y="2565360"/>
            <a:chExt cx="2520720" cy="2879640"/>
          </a:xfrm>
        </p:grpSpPr>
        <p:sp>
          <p:nvSpPr>
            <p:cNvPr id="172" name=""/>
            <p:cNvSpPr/>
            <p:nvPr/>
          </p:nvSpPr>
          <p:spPr>
            <a:xfrm>
              <a:off x="4788000" y="2565360"/>
              <a:ext cx="1224000" cy="2879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012000" y="5013360"/>
              <a:ext cx="1296720" cy="431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6049800"/>
            <a:ext cx="4752720" cy="60660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4572000" y="2565360"/>
            <a:ext cx="1944360" cy="3339360"/>
            <a:chOff x="4572000" y="2565360"/>
            <a:chExt cx="1944360" cy="3339360"/>
          </a:xfrm>
        </p:grpSpPr>
        <p:grpSp>
          <p:nvGrpSpPr>
            <p:cNvPr id="176" name=""/>
            <p:cNvGrpSpPr/>
            <p:nvPr/>
          </p:nvGrpSpPr>
          <p:grpSpPr>
            <a:xfrm>
              <a:off x="4572000" y="2565360"/>
              <a:ext cx="1944360" cy="2879640"/>
              <a:chOff x="4572000" y="2565360"/>
              <a:chExt cx="1944360" cy="2879640"/>
            </a:xfrm>
          </p:grpSpPr>
          <p:sp>
            <p:nvSpPr>
              <p:cNvPr id="177" name=""/>
              <p:cNvSpPr/>
              <p:nvPr/>
            </p:nvSpPr>
            <p:spPr>
              <a:xfrm>
                <a:off x="4572000" y="2565360"/>
                <a:ext cx="647640" cy="2879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219280" y="3573360"/>
                <a:ext cx="1297080" cy="1871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635720" y="5445000"/>
              <a:ext cx="14547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V="1">
            <a:off x="3780000" y="2641680"/>
            <a:ext cx="0" cy="50328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Relation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@ instance level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6695280" y="3073320"/>
            <a:ext cx="1552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16520" y="235260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1520" y="1197000"/>
            <a:ext cx="1549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7840" y="340668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187280" y="1341360"/>
            <a:ext cx="1800360" cy="19432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24360" y="1844640"/>
            <a:ext cx="0" cy="432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859280" y="1483920"/>
            <a:ext cx="1944720" cy="1513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42920" y="3720600"/>
            <a:ext cx="0" cy="57636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3520" y="3094200"/>
            <a:ext cx="1186560" cy="27648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enchy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840" y="4157640"/>
            <a:ext cx="810000" cy="27648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ns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936840" y="3582720"/>
            <a:ext cx="636120" cy="635760"/>
            <a:chOff x="6936840" y="3582720"/>
            <a:chExt cx="636120" cy="635760"/>
          </a:xfrm>
        </p:grpSpPr>
        <p:sp>
          <p:nvSpPr>
            <p:cNvPr id="193" name=""/>
            <p:cNvSpPr/>
            <p:nvPr/>
          </p:nvSpPr>
          <p:spPr>
            <a:xfrm flipV="1">
              <a:off x="6980040" y="358272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6840" y="3942000"/>
              <a:ext cx="6361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clea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V="1">
            <a:off x="1908000" y="2568600"/>
            <a:ext cx="115128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932000" y="2496960"/>
            <a:ext cx="1655640" cy="648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4441680"/>
            <a:ext cx="287640" cy="1150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474920" y="3360600"/>
            <a:ext cx="2016000" cy="223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000" y="5592600"/>
            <a:ext cx="14547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803120" y="3789360"/>
            <a:ext cx="2390400" cy="2413080"/>
            <a:chOff x="4803120" y="3789360"/>
            <a:chExt cx="2390400" cy="2413080"/>
          </a:xfrm>
        </p:grpSpPr>
        <p:sp>
          <p:nvSpPr>
            <p:cNvPr id="201" name=""/>
            <p:cNvSpPr/>
            <p:nvPr/>
          </p:nvSpPr>
          <p:spPr>
            <a:xfrm flipH="1">
              <a:off x="5435280" y="4152960"/>
              <a:ext cx="1584360" cy="1220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9640" y="3789360"/>
              <a:ext cx="216000" cy="1587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3120" y="5376960"/>
              <a:ext cx="239040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OF NORM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547640" y="2637000"/>
            <a:ext cx="3168720" cy="2879640"/>
            <a:chOff x="1547640" y="2637000"/>
            <a:chExt cx="3168720" cy="2879640"/>
          </a:xfrm>
        </p:grpSpPr>
        <p:sp>
          <p:nvSpPr>
            <p:cNvPr id="205" name=""/>
            <p:cNvSpPr/>
            <p:nvPr/>
          </p:nvSpPr>
          <p:spPr>
            <a:xfrm flipV="1">
              <a:off x="3112920" y="2637000"/>
              <a:ext cx="19080" cy="16351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12840" y="4221000"/>
              <a:ext cx="6577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bon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47640" y="4437000"/>
              <a:ext cx="3168720" cy="1079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19640" y="4508640"/>
              <a:ext cx="1296720" cy="1008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005520" y="1268280"/>
            <a:ext cx="28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a logic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image 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tomic constitution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27680" y="242100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the ontolog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12840" y="2637000"/>
            <a:ext cx="613440" cy="1144800"/>
            <a:chOff x="4812840" y="2637000"/>
            <a:chExt cx="613440" cy="1144800"/>
          </a:xfrm>
        </p:grpSpPr>
        <p:sp>
          <p:nvSpPr>
            <p:cNvPr id="212" name=""/>
            <p:cNvSpPr/>
            <p:nvPr/>
          </p:nvSpPr>
          <p:spPr>
            <a:xfrm flipV="1">
              <a:off x="4840200" y="2637000"/>
              <a:ext cx="19080" cy="915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12840" y="3505320"/>
              <a:ext cx="6134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lung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11:15:59Z</dcterms:created>
  <dc:creator>Terrie Stickel</dc:creator>
  <dc:description/>
  <dc:language>en-US</dc:language>
  <cp:lastModifiedBy>Mariana Casella Dos Santos</cp:lastModifiedBy>
  <dcterms:modified xsi:type="dcterms:W3CDTF">2006-03-25T00:56:24Z</dcterms:modified>
  <cp:revision>465</cp:revision>
  <dc:subject/>
  <dc:title>PowerPoint Presentation</dc:title>
</cp:coreProperties>
</file>